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21F-E277-4E6E-8377-9B152E2B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807-7944-4A34-9ECD-0A746B06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686-7698-49FE-96A9-2C5462A3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3E0-B109-44DE-BC9A-F18E4946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A0C-F4A1-450F-A7CD-0581A756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D4D-F33E-4C59-8C45-B03AE2E3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1D9-F2A0-4EAD-92A6-FB3AF975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B36-0D27-4271-B3C4-F355BD98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B4F-3909-4155-89C7-C19A588F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46A-77FF-43FF-929E-72A7B80A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147-65AC-4B8C-8190-6F8C096D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A75-46B3-48F0-BEDF-2915DBFE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904F-7B7C-479F-9713-F0F2AD829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11280" y="76500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067280" y="21337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716360" y="32130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u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781cb371d30414592581a814d8f2e19b"/>
          <p:cNvPicPr/>
          <p:nvPr/>
        </p:nvPicPr>
        <p:blipFill>
          <a:blip r:embed="rId2"/>
          <a:stretch/>
        </p:blipFill>
        <p:spPr>
          <a:xfrm>
            <a:off x="900000" y="3213000"/>
            <a:ext cx="2521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87280" y="3068640"/>
            <a:ext cx="66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   brown   down  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    bird    first  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  brother   with   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 lunch   teacher  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   night   right  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0a3a45fee7de5a13cc3e5c559788664f"/>
          <p:cNvPicPr/>
          <p:nvPr/>
        </p:nvPicPr>
        <p:blipFill>
          <a:blip r:embed="rId1"/>
          <a:stretch/>
        </p:blipFill>
        <p:spPr>
          <a:xfrm>
            <a:off x="6443640" y="404640"/>
            <a:ext cx="1866960" cy="194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55640" y="333360"/>
            <a:ext cx="4248000" cy="163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et’s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u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87280" y="1052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Let’s rea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57e86d5511667edc9f0bce7852a59cc0"/>
          <p:cNvPicPr/>
          <p:nvPr/>
        </p:nvPicPr>
        <p:blipFill>
          <a:blip r:embed="rId1"/>
          <a:stretch/>
        </p:blipFill>
        <p:spPr>
          <a:xfrm>
            <a:off x="5867280" y="404640"/>
            <a:ext cx="2232000" cy="223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826920" y="3068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ackboard, plant, desk, teacher’s table, listen, ask questions, learn by heart, translate, retell, write, read, draw, count, copy, sing songs, dictionary, ruler, paints, text book, pencil, rubber, pen, felt-tip pen, b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332000" y="620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t’s spea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9567674cabbaea15b9adc4492521bcf4"/>
          <p:cNvPicPr/>
          <p:nvPr/>
        </p:nvPicPr>
        <p:blipFill>
          <a:blip r:embed="rId1"/>
          <a:stretch/>
        </p:blipFill>
        <p:spPr>
          <a:xfrm>
            <a:off x="6443640" y="404640"/>
            <a:ext cx="1938240" cy="19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763640" y="3284640"/>
          <a:ext cx="5905440" cy="222876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t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.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36"/>
          <p:cNvSpPr/>
          <p:nvPr/>
        </p:nvSpPr>
        <p:spPr>
          <a:xfrm>
            <a:off x="324000" y="24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What do you usually do at the lessons</a:t>
            </a: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61128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e 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1" descr="is"/>
          <p:cNvPicPr/>
          <p:nvPr/>
        </p:nvPicPr>
        <p:blipFill>
          <a:blip r:embed="rId2"/>
          <a:stretch/>
        </p:blipFill>
        <p:spPr>
          <a:xfrm>
            <a:off x="3995640" y="558972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2"/>
          <p:cNvSpPr/>
          <p:nvPr/>
        </p:nvSpPr>
        <p:spPr>
          <a:xfrm>
            <a:off x="5435640" y="5734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t the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42920" y="981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Let’s match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ddde47ac664b7ad977fa92beabff8f0"/>
          <p:cNvPicPr/>
          <p:nvPr/>
        </p:nvPicPr>
        <p:blipFill>
          <a:blip r:embed="rId1"/>
          <a:stretch/>
        </p:blipFill>
        <p:spPr>
          <a:xfrm>
            <a:off x="6300720" y="26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971640" y="2349360"/>
            <a:ext cx="2735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ette rec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io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24360" y="2276640"/>
            <a:ext cx="3240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ns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ra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st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03280" y="6021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need __________ for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2692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t’s comple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4cda5503d5f85810b7cdce4b8154490c"/>
          <p:cNvPicPr/>
          <p:nvPr/>
        </p:nvPicPr>
        <p:blipFill>
          <a:blip r:embed="rId2"/>
          <a:stretch/>
        </p:blipFill>
        <p:spPr>
          <a:xfrm>
            <a:off x="6227640" y="33336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71640" y="1628640"/>
            <a:ext cx="7416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t, read, we, Russian, usually,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like, the break, to play, we, d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ny,  are, our, in, there, desk, classro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bag, I, different, have, my, paints,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nglish, from, translate, into, usually, we, Russi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26920" y="260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transl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472a72d975bcc792f4889b06846bb0c"/>
          <p:cNvPicPr/>
          <p:nvPr/>
        </p:nvPicPr>
        <p:blipFill>
          <a:blip r:embed="rId2"/>
          <a:stretch/>
        </p:blipFill>
        <p:spPr>
          <a:xfrm>
            <a:off x="6443640" y="18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68360" y="1700280"/>
            <a:ext cx="48974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English into Russ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eacher’s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ell the fairy-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68360" y="4221000"/>
            <a:ext cx="395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Russian into Englis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ва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ть тек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аривать по-англий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ь наиз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кар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076720" y="2133720"/>
            <a:ext cx="3598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ть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ть на вопрос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ь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ть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ывать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4653000"/>
            <a:ext cx="38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by he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8360" y="189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836640"/>
          <a:ext cx="5397480" cy="53640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39640"/>
                <a:gridCol w="540000"/>
                <a:gridCol w="539640"/>
                <a:gridCol w="539640"/>
                <a:gridCol w="5400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136"/>
          <p:cNvSpPr/>
          <p:nvPr/>
        </p:nvSpPr>
        <p:spPr>
          <a:xfrm>
            <a:off x="6588000" y="907920"/>
            <a:ext cx="2016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1:07:19Z</dcterms:created>
  <dc:creator>Natalia</dc:creator>
  <dc:description/>
  <dc:language>en-US</dc:language>
  <cp:lastModifiedBy>-</cp:lastModifiedBy>
  <dcterms:modified xsi:type="dcterms:W3CDTF">2013-04-29T21:10:14Z</dcterms:modified>
  <cp:revision>16</cp:revision>
  <dc:subject/>
  <dc:title>Слайд 1</dc:title>
</cp:coreProperties>
</file>